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1DC-04F7-4D33-BDDE-D9AE1D8B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28C-EA30-4735-A9F9-1A0BFDE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FE1-2CBD-4104-A59A-59E0850F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11C-F67C-4CC8-A82A-BEDC7992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5083-DA07-49C5-BFA0-CA39EC2E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7EDA-2ABE-4F43-AA93-0D0F0FA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B9A-273C-4EF7-9D93-D16E187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42ED-F447-473E-86A0-E15A521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6201-C82D-4E3A-8C1F-4F782E3A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308-4570-48CE-BCE1-979FE0D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A21-328A-41A7-808C-9B57D53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5F9-8BDD-46D2-B2BA-617CABC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A962-FAB6-4C9E-BEA0-E93A12A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8D86-18FD-44A0-B88F-93912555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6103-1E16-4338-ABA0-7E6D9EE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F368-05B8-4FED-8AED-F5F36E46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064D-DF94-491F-B9F2-543A7893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3A89-8448-4F7E-A9B0-2397CCDC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0D5B-EBE3-4947-919A-CA063DF7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865B-8141-4C27-BFC1-26ED81E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D64C-1E2F-4AF2-8631-540F611F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B3C8-470A-4E66-A2F1-201077A9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EDD-359E-4790-9F9E-BFC2CF8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0712-D901-4385-8DDA-0E4AFB2E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0F85-60CB-4E77-8844-881E7B9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FB9F-C47B-4E97-91B2-5AC2588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27BB-891E-40F0-944F-118D186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A87A-925C-4E22-BF6B-91823E0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9413-9E6D-4A30-8182-80495D1B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DB041-F05E-41F0-B228-38F9333A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40D5-2D3A-4C71-9F92-8D679435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7EEA-5FA9-40B1-9E06-D5C9D507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1598-0D09-4728-B484-E255908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DE6-4A22-4807-A916-B69635F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B95F-D765-46F9-A34E-75E1FDD8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C04D-97CB-4D8D-8F41-BD6BE302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A142-4DA6-46E4-937F-1FA80333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549CA-3B92-4EF7-B383-159F5A2C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9B01-FCCB-45F2-B27F-F42EE3E5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4CBC-9934-49C3-A74E-6EE4343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920D-DA84-4A4E-972A-03FF6C0F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F24EC-7933-4A72-B827-34DE326F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1DC2C-D4AF-4382-B0D0-734A7913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CB4-2740-4443-8246-259EF5F2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20D-3504-46DC-B76B-7DD7E37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D71-7B32-4FF8-8C0F-1A51D63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D6D-D224-4807-9F86-EB4A438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3CB-BE48-4CDE-8A06-760C4204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B065-0BCD-4EC0-A604-FA1DB587F4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8C3-3145-4208-8DBE-023E6FC889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199B-5551-4828-B2CD-84E5310A290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80B7-F13D-455A-9BE0-DB6D21C546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a Omas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Úplný počátek…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jako mimink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školák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ve vojenské službě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začíná pomáhat italské ekonom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v největším rozkvět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slaví podruhé čtyřicítku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šechno nejlepší!!!!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7:15:29Z</dcterms:created>
  <dc:creator>Jiri Trojan, DiS.</dc:creator>
  <dc:description/>
  <dc:language>en-US</dc:language>
  <cp:lastModifiedBy>Jiri Trojan, DiS.</cp:lastModifiedBy>
  <dcterms:modified xsi:type="dcterms:W3CDTF">2009-02-28T19:54:43Z</dcterms:modified>
  <cp:revision>10</cp:revision>
  <dc:subject/>
  <dc:title>Snímek 1</dc:title>
</cp:coreProperties>
</file>