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864-FE10-441D-9A1B-885F233D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9DB-E10A-4A74-917D-0130A8F7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4813-AEA8-41EF-B89F-BDB6A68C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87C8-D95B-46E3-9134-C3A223F3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88D4-ED91-4B95-ACC9-6ACB5D27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740F-BEB4-4A36-997A-621FD340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85D1-8310-425E-8132-1065790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6544-145F-4022-B7CA-BAABF8C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853B-E981-4516-A873-3745204C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BC16-4122-47DA-8CC0-A46CBB3E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F989-4F61-40EF-92A8-B5E64846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4EB-2DFF-4A1A-A8A6-043C1845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318D-E972-4CD4-8420-8094FE0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08C4-7ECC-4BBD-A0F0-97BA179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4A98-8614-4CF4-A38B-5A910249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A437-0806-4A5F-B5E8-B2331264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8777-E42C-43BD-95D0-23BFE02C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4BC6-A00B-460A-B771-B880B77A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1E97-EA61-49E1-BAE9-900E647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8F7F-3E5A-4CD7-9F5F-CE637B13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6AF0-0F34-4939-8F88-A8857A64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A71A-1554-4FC4-8093-1C9535B4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0374-DE13-46F5-AC9E-6C10F63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1BAFB-3514-431A-95F5-0CAC1F60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8D319-67BD-45B7-B066-7BC1453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F447-6AC2-4F48-8A91-4FF2761F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48E40-4431-4E40-9343-7E8A7B6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8760A-B549-4198-8CF2-5C24B8F8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FB334-C083-4714-940B-222BC007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0CC12-F806-4C57-BF67-723A4E70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B7842-6BE2-429F-8FB6-BA1B78C8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1FDE1-2636-43AD-8640-9F1D43B2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81DC9-4060-49E6-B110-56A813C7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E51-5184-4A6F-87E5-CE30E1B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3C343-E044-43F3-BC7F-8F2D34AA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5FDE4-DE73-40EB-9235-E903143F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BE50-C910-4994-9219-57AB187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64AA-3B7E-45F9-81D4-F5FDC9A2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822A7-8C75-4FD6-B241-D103F1AA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D751-04FA-45A1-957A-CFD4DC96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B25C-78A6-4EDD-A44F-D5CD122B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7EB6-14A1-444B-8493-3C681C3A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B6A5D-2826-438E-AB6D-259414BD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FFF-CA84-45DA-AC77-36CF34AF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F43-389D-4BDD-B283-6DA0997A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C906-2AB5-4CFB-9180-6F7A524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08E2-1A9C-4980-867C-0FC85FB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A53-0B7C-4A1C-95C1-EFE8226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544-0142-4DED-BC38-CB8F249D82B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0645-F8B7-4067-B2D4-E260D98106B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3CCA-AAD1-4B0D-BC8D-F4192D9DD42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21FF-5CFF-4D2C-B9ED-D378B2C3A9C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a Omas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Úplný počátek…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jako mimink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školáke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ve vojenské službě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začíná pomáhat italské ekonomi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v největším rozkvětu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Nadpis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Petr Omasta slaví podruhé čtyřicítku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nstantia"/>
              </a:rPr>
              <a:t>Všechno nejlepší!!!!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7:15:29Z</dcterms:created>
  <dc:creator>Jiri Trojan, DiS.</dc:creator>
  <dc:description/>
  <dc:language>en-US</dc:language>
  <cp:lastModifiedBy>Jiri Trojan, DiS.</cp:lastModifiedBy>
  <dcterms:modified xsi:type="dcterms:W3CDTF">2009-02-28T19:54:43Z</dcterms:modified>
  <cp:revision>10</cp:revision>
  <dc:subject/>
  <dc:title>Snímek 1</dc:title>
</cp:coreProperties>
</file>